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CCF2-3219-4313-99D2-10300B5DB9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0B82C6-466E-4DF2-B6EF-8EA4801F7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684-0CAE-45AA-B782-EB0CD079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22F-B38C-4D03-8F6F-8C3C7F2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803-FF14-41F7-8B72-F3486EF6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E77-A823-4525-A1F7-128B3DD8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75E-B4F6-4B67-B07C-141138C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5DC-D4D0-44E9-AD7A-D5940A06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8DB-E714-49FD-B610-E9863840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104-1C6C-4C58-A5CF-56BC186A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7AD-413E-486E-818A-4471E4B2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7F1-EF38-4BDE-8C37-342884A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746-5D8C-449E-8D4C-3C6F1248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19C-87AE-4929-8259-3DA94DF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B401-E9E6-4878-86DA-6CA2F1A80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30:06Z</dcterms:modified>
  <cp:revision>4</cp:revision>
  <dc:subject/>
  <dc:title>Слайд 1</dc:title>
</cp:coreProperties>
</file>